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F7BD-7B9C-4724-926E-79585590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94F-D6B3-49D4-8679-4E9B00A3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FB1-4049-4340-A806-F080D825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1AC-31D1-4FA4-A27F-3C49D1AB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04A-05F3-4350-891F-BAD0FCA8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4FE-CBEE-4E57-A571-44D9B2C2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875A-1726-421C-AE3C-86C4CCCF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FF3B-BAAF-4916-91F7-93D5D537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48D-4421-4DCB-8FCD-ADFE2012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F251-00F9-466D-8639-3317685E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1F5E-8F29-4558-A74B-79DFBA4B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0F0F-856A-4F7F-954B-AD5B9BB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CC7-2CB2-426D-BFC0-D00EA6D5B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k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57913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.Re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C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olkt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ktales are stories told by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Folktale you may remember is Jack and the Beans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F:\school\folktales\jackbeanstalk.jpg"/>
          <p:cNvPicPr/>
          <p:nvPr/>
        </p:nvPicPr>
        <p:blipFill>
          <a:blip r:embed="rId1"/>
          <a:stretch/>
        </p:blipFill>
        <p:spPr>
          <a:xfrm>
            <a:off x="5029200" y="1523880"/>
            <a:ext cx="3657600" cy="49532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9807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ktales are stories that are told from generation to generation, like the story of the tooth fai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F:\school\folktales\toothfairy.jpg"/>
          <p:cNvPicPr/>
          <p:nvPr/>
        </p:nvPicPr>
        <p:blipFill>
          <a:blip r:embed="rId1"/>
          <a:stretch/>
        </p:blipFill>
        <p:spPr>
          <a:xfrm>
            <a:off x="4916520" y="1371600"/>
            <a:ext cx="375768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folktales are make belie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F:\school\folktales\rumpelstiltskin.jpg"/>
          <p:cNvPicPr/>
          <p:nvPr/>
        </p:nvPicPr>
        <p:blipFill>
          <a:blip r:embed="rId1"/>
          <a:stretch/>
        </p:blipFill>
        <p:spPr>
          <a:xfrm>
            <a:off x="304920" y="685800"/>
            <a:ext cx="43815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are part make believe and part r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that the characters themselves were probably real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F:\school\folktales\reeve%20lindbergh%20johnny%.gif"/>
          <p:cNvPicPr/>
          <p:nvPr/>
        </p:nvPicPr>
        <p:blipFill>
          <a:blip r:embed="rId1"/>
          <a:stretch/>
        </p:blipFill>
        <p:spPr>
          <a:xfrm>
            <a:off x="228600" y="1219320"/>
            <a:ext cx="434340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47560" y="304560"/>
            <a:ext cx="739116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teach a lesson like the story of the Tortoise and the H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so, in some folktales, animals can tal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F:\school\folktales\haretortoise.jpg"/>
          <p:cNvPicPr/>
          <p:nvPr/>
        </p:nvPicPr>
        <p:blipFill>
          <a:blip r:embed="rId1"/>
          <a:stretch/>
        </p:blipFill>
        <p:spPr>
          <a:xfrm>
            <a:off x="3276720" y="1981080"/>
            <a:ext cx="5486400" cy="4489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99840" y="16002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can be sc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F:\school\folktales\the%20legend%20of%20sleepy%.jpg"/>
          <p:cNvPicPr/>
          <p:nvPr/>
        </p:nvPicPr>
        <p:blipFill>
          <a:blip r:embed="rId1"/>
          <a:stretch/>
        </p:blipFill>
        <p:spPr>
          <a:xfrm>
            <a:off x="4975200" y="1981080"/>
            <a:ext cx="315432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281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folktales are also tall ta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they are exaggerated and sometimes fun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F:\school\folktales\AmTallTales.jpg"/>
          <p:cNvPicPr/>
          <p:nvPr/>
        </p:nvPicPr>
        <p:blipFill>
          <a:blip r:embed="rId1"/>
          <a:stretch/>
        </p:blipFill>
        <p:spPr>
          <a:xfrm>
            <a:off x="4465800" y="457200"/>
            <a:ext cx="4297320" cy="5867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folktales can you reme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02:53:14Z</dcterms:created>
  <dc:creator>areyes</dc:creator>
  <dc:description/>
  <dc:language>en-US</dc:language>
  <cp:lastModifiedBy>Lynne M. Gorman</cp:lastModifiedBy>
  <dcterms:modified xsi:type="dcterms:W3CDTF">2011-01-07T17:15:41Z</dcterms:modified>
  <cp:revision>2</cp:revision>
  <dc:subject/>
  <dc:title>Folktales</dc:title>
</cp:coreProperties>
</file>